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0ECA-711A-4F10-9F8C-74E5516D8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70BB-F512-469C-90E1-789969B1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2711-1E65-4828-B4C1-A779CBE8D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DFBE-6366-4ECA-9F9A-D754552CC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126C3-368A-4B3B-94F2-ECE9C9519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EAAD0-7CA5-4852-BF41-AD76FB598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6894D-04BA-4048-8AE6-5D4F8756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7006B-A4B8-4421-BF4C-FD7E5E6FF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2AC8C-BF12-4131-9F1C-31EAD9BEE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1A25C-C33F-43F7-AF74-6AE7443A2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79698-C390-48ED-8AD2-8DBA6C25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31F3-1A63-40F7-89FC-4F281749A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6F5A5-B32D-4C99-921B-4104F02B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52774-B014-4411-871B-FFAA26C2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7BE12-7FF3-41BF-B17E-2A477D6FE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53614-9D4D-4663-8693-FD78657BE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26B06-3B1B-45DE-BEDC-1C98A3565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A87F7-9B8F-444A-8916-EF2EB92E9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C0527-FF97-4636-B1B2-FCABA0F50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93347-648B-4E4E-9E9D-45D9EEE85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B29B9-90AD-456D-9ECB-652139411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AE4D2-4601-4DE5-92AA-EEBFD1387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96FD-C839-43B3-9D49-3D2582D77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0C9BA-154B-478C-A6FE-613F80D55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8706E-651B-4303-937D-B10FA537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36A87-6414-4EF5-B697-AE8DD6A3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2C078-C411-4A61-8924-52E457DE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B0851-6680-46AC-BAAC-034CAC139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E951E-8A6D-4BC9-B028-22DEDC109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124B9-3A71-4ADD-B4AD-C0A57F2D0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3CCB5-F8C4-431C-A1F1-43C3562BB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08AD8-6575-4F3A-87D9-DE76F334B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67D8F-5999-432E-A746-8378B627C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448B-62F6-407D-B119-ABDF3D8DA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07A1B-C441-431F-AB92-0EDA370F0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9573E-0753-4423-AAB7-6348F64D6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7098D-B9CF-4B13-9D8E-7C995F311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B9C82-438A-455C-A846-51311666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F6BA4-4EDF-40BA-9702-2E2196F4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1F72D-7B15-4203-9416-5C3B2D31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BFFFF-127D-4A2D-B7E0-CA0811243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E2FC4-B977-440D-BD3A-35429B8BC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83E19-7D57-4DE6-A513-20A5614C4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368C8-D8A3-4CA2-BA9C-F82443FCF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986D-119F-4CD2-A0AF-3791DBC8B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767EA-2707-4EDB-AA19-47FD542FB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07DBA-881C-4C9F-A86D-D61C70D96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71509-EA26-4716-BCB5-3568E2D6A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119C1-2499-4732-B144-D0DC17F07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A5AE9-91E9-4187-902A-926DC1546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B7AF6-7E2A-48A4-BCD6-61E57E49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EBC68-F0BC-4276-A168-5452A393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3A1AA-A9DC-4C14-A157-F75EF3FC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CFB28-007E-4828-B674-031750AEC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64174-B060-4E22-8EDE-09E02E5F4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77CE-3B54-441E-BB0C-5D3F34374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D7BD6-EBC5-4AAD-B150-3C48F6CC4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8F52FA-C14A-493D-BDCF-A6EDAAA3C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D49719-5577-4757-9521-5EE58072F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B5025-DECB-4DEA-8B58-573851F50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0C8B0-8CBC-45E6-B4BE-25F6CEAFB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B9E39-C4EB-4CDF-BC2A-F83159A46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FEBED-27F3-4F4C-9926-2969971C6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B52A4-BA07-4B9A-A6AB-DEADAEF5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425DE-E723-45F6-A5E8-99559554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66C2DD-45AE-417C-B343-F88B14F9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692E-3B5D-40D6-A12D-2C562FA1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553E6-2402-4B87-82B4-465F7CA54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35EFE-2224-4CFF-8132-65630F63D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767F9-8EC4-4364-B907-FCA44FFCB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9064C-4DDF-4EC8-8B25-E64F5F59D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AAA1B7-ABAD-4EF5-8C62-88402E2C9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6B448-75B3-4931-A2DF-D35A3E2BE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343DDD-45B0-48D9-9027-D578CBCDF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3DAF1-376A-4CCE-A223-4C2D04D67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54591-C1AE-429D-A243-5E7E5ADF6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12FECF-C1CC-4AE0-BEAB-E6D7C14C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12D9-05A4-4C6C-BC08-F0249515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D137F6-DFDF-4E7A-9780-0226C157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41D36-C79E-4ED9-B7F0-8FFDF91F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9F33CE-8ACF-4734-BA2B-083DA2C3F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9CF20-4F10-4079-81D6-7F503A772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D188FF-705B-468D-88C2-96001648C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7C10D-C61D-4E2B-B547-778C0B89B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E1EC8C-06F4-424D-B8F4-1450D0879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983630-FB4E-4571-BC8F-BCC1110B5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B8E31A-D30C-4928-B358-2D818CC81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90AE2A-A6B9-42CB-A744-D7D1B9E6B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F059-BDC4-41E5-A719-31AE9805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DF6107-0AF7-410E-B7B1-2087B68F8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66A5F3-7F21-4B2F-A246-E81C0C3B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08FEB9-21A2-43FA-90D0-DEC0FA9D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3C670B-4CE4-4B98-8A6E-B6803967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A9051-4ECF-4CB7-B6BC-AB344FC67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8C13C2-11DC-4CA5-BBEE-F58FD5D5F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3603F2-1B4A-4307-A934-F31E383E2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030"/>
            </a:gs>
            <a:gs pos="100000">
              <a:srgbClr val="7c7c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ef5fa">
                  <a:alpha val="1176"/>
                </a:srgbClr>
              </a:gs>
              <a:gs pos="100000">
                <a:srgbClr val="def5fa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9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1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ebfd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67731-2905-4C3D-BB4C-6DE14A988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030"/>
            </a:gs>
            <a:gs pos="100000">
              <a:srgbClr val="7c7c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ef5fa">
                  <a:alpha val="1176"/>
                </a:srgbClr>
              </a:gs>
              <a:gs pos="100000">
                <a:srgbClr val="def5fa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9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1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006b86"/>
              </a:gs>
              <a:gs pos="100000">
                <a:srgbClr val="7bd1f3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ebfd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BCA5D-2AFA-4495-A974-F6B1C85F766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030"/>
            </a:gs>
            <a:gs pos="100000">
              <a:srgbClr val="7c7c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ef5fa">
                  <a:alpha val="1176"/>
                </a:srgbClr>
              </a:gs>
              <a:gs pos="100000">
                <a:srgbClr val="def5fa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9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1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ebfd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CC182-85C9-48D5-9199-50E38518D4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ef5fa">
                  <a:alpha val="1176"/>
                </a:srgbClr>
              </a:gs>
              <a:gs pos="100000">
                <a:srgbClr val="def5fa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006b86"/>
              </a:gs>
              <a:gs pos="100000">
                <a:srgbClr val="7bd1f3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Straight Connector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1c1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Straight Connector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9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ebfd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2CFB7-F71D-4FD9-9282-C440190E63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030"/>
            </a:gs>
            <a:gs pos="100000">
              <a:srgbClr val="7c7c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ef5fa">
                  <a:alpha val="1176"/>
                </a:srgbClr>
              </a:gs>
              <a:gs pos="100000">
                <a:srgbClr val="def5fa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9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1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ebfd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C48FE-417D-4E7B-A769-988658417F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030"/>
            </a:gs>
            <a:gs pos="100000">
              <a:srgbClr val="7c7c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ebfd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EE680-FCE8-4CC4-9815-A9FAAFF749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030"/>
            </a:gs>
            <a:gs pos="100000">
              <a:srgbClr val="7c7c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ebfd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DD332-2CF8-495E-9F01-810D11774F99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ebfd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6BDA1-2180-4DEE-954E-CDFF778347D9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030"/>
            </a:gs>
            <a:gs pos="100000">
              <a:srgbClr val="7c7c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itle 1" descr=""/>
          <p:cNvPicPr/>
          <p:nvPr/>
        </p:nvPicPr>
        <p:blipFill>
          <a:blip r:embed="rId1"/>
          <a:stretch/>
        </p:blipFill>
        <p:spPr>
          <a:xfrm>
            <a:off x="536400" y="652320"/>
            <a:ext cx="8455320" cy="1597320"/>
          </a:xfrm>
          <a:prstGeom prst="rect">
            <a:avLst/>
          </a:prstGeom>
          <a:ln w="0">
            <a:noFill/>
          </a:ln>
        </p:spPr>
      </p:pic>
      <p:pic>
        <p:nvPicPr>
          <p:cNvPr id="346" name="Subtitle 2" descr=""/>
          <p:cNvPicPr/>
          <p:nvPr/>
        </p:nvPicPr>
        <p:blipFill>
          <a:blip r:embed="rId2"/>
          <a:stretch/>
        </p:blipFill>
        <p:spPr>
          <a:xfrm>
            <a:off x="536400" y="2170080"/>
            <a:ext cx="8174160" cy="18414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2" descr="http://www.arrl.org/images/view/News/DemRepCongo_flag.jpg"/>
          <p:cNvPicPr/>
          <p:nvPr/>
        </p:nvPicPr>
        <p:blipFill>
          <a:blip r:embed="rId3"/>
          <a:stretch/>
        </p:blipFill>
        <p:spPr>
          <a:xfrm>
            <a:off x="685800" y="2666880"/>
            <a:ext cx="27367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030"/>
            </a:gs>
            <a:gs pos="100000">
              <a:srgbClr val="7c7c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Nationality– Congole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urrent population-- 71,712,867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Location – central Africa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entury Gothic"/>
              </a:rPr>
              <a:t>Capital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-- Kinshasa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ain religion– Christia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030"/>
            </a:gs>
            <a:gs pos="100000">
              <a:srgbClr val="7c7c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mate– Equatoria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errain– tropical rainforest, mountains, plateaus, and savanna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rea-- 2.345 sq. km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Bordering nations-- Angola, Burundi, Central African Republic, Republic of the Congo, Rwanda, Sudan, Tanzania, Uganda, Zambia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030"/>
            </a:gs>
            <a:gs pos="100000">
              <a:srgbClr val="7c7c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152280" y="1828800"/>
            <a:ext cx="8839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ype– Republic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dependence from Belgium– June 30, 1960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ecutive Branch– President is head of stat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Judicial Branch– Supreme Cour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Legislative Branch– 500 member assembl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030"/>
            </a:gs>
            <a:gs pos="100000">
              <a:srgbClr val="7c7c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Natural Resources– copper, cobalt, diamonds, gold, other mineral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ost of land use– Forest/ Woodland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ports-- $7.5 billio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urrency– Congolese Franc (FC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030"/>
            </a:gs>
            <a:gs pos="100000">
              <a:srgbClr val="7c7c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2" descr="http://www.geographicguide.net/africa/images/congo-map.gif"/>
          <p:cNvPicPr/>
          <p:nvPr/>
        </p:nvPicPr>
        <p:blipFill>
          <a:blip r:embed="rId2"/>
          <a:stretch/>
        </p:blipFill>
        <p:spPr>
          <a:xfrm>
            <a:off x="2286000" y="1523880"/>
            <a:ext cx="480060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2T14:44:33Z</dcterms:created>
  <dc:creator>31658</dc:creator>
  <dc:description/>
  <dc:language>en-US</dc:language>
  <cp:lastModifiedBy>WAC</cp:lastModifiedBy>
  <dcterms:modified xsi:type="dcterms:W3CDTF">2011-05-19T17:28:56Z</dcterms:modified>
  <cp:revision>3</cp:revision>
  <dc:subject/>
  <dc:title>The Democratic Republic of Congo</dc:title>
</cp:coreProperties>
</file>